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0A67-4142-467E-A0C0-753AD0C3D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0FC5-2B08-44B0-8A5E-B15A452C3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1ABD-0F3B-45DB-A741-1FC5BCE1A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50F9-A038-4544-BF05-FD40BCC8D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51F3-AA12-4DDC-978A-D70DD470A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26E4-AFD0-4627-A8FF-EABC79431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       Slide </a:t>
            </a:r>
            <a:fld id="{E4F45B4B-1077-45C7-B4F1-1A16BDF7FDD5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2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28A995A5-AEC0-490B-9268-9562EFF7636A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3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26CA6E17-F851-4F82-8169-5B0113B25DBC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4"/>
          </p:nvPr>
        </p:nvSpPr>
        <p:spPr>
          <a:xfrm>
            <a:off x="668160" y="6244920"/>
            <a:ext cx="8018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E46B367B-DFC4-42F1-826B-2590E3856276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5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8E8FF486-99FC-461C-BBF6-E45D97EA22AE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6"/>
          </p:nvPr>
        </p:nvSpPr>
        <p:spPr>
          <a:xfrm>
            <a:off x="696960" y="6244920"/>
            <a:ext cx="798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A28460C1-0E7D-48D4-AF3F-4C7525722703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7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35580F0F-8B2E-4ACB-AB8F-48F6C44582E3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8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7C600732-7B23-497A-8D9A-18A660F128C4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89000" y="6008400"/>
            <a:ext cx="876600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12: Desktop Publ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5032440" y="6566040"/>
            <a:ext cx="4111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, 2006 South-Western, Cengage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Shap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90720" y="1600200"/>
            <a:ext cx="485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y made shapes and a variety of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select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ocument, click mouse and drag across and down to create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Illustrations group on Insert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0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94A6D029-F4C0-4591-A19B-993BFBF9DF8F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5856120" y="1579680"/>
            <a:ext cx="290196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Format Shap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features on Drawing Tools Format tab to format sha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, color, border thickness, and fill color of a shape can be chang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can be added and edi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0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7EB2861C-C4FC-4D4A-93F9-982199CC21C2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682560" y="2709720"/>
            <a:ext cx="8199360" cy="10972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"/>
          <p:cNvPicPr/>
          <p:nvPr/>
        </p:nvPicPr>
        <p:blipFill>
          <a:blip r:embed="rId2"/>
          <a:stretch/>
        </p:blipFill>
        <p:spPr>
          <a:xfrm>
            <a:off x="7151760" y="4863960"/>
            <a:ext cx="1527120" cy="13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p Ar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y made drawings and photograph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nclude sounds and video cl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careful not to violate copyright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or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fe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rch results are                         displayed as                                thumbn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insert into                               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0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20D50436-08A6-472B-9F5F-BE26E41C255C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3" descr=""/>
          <p:cNvPicPr/>
          <p:nvPr/>
        </p:nvPicPr>
        <p:blipFill>
          <a:blip r:embed="rId1"/>
          <a:stretch/>
        </p:blipFill>
        <p:spPr>
          <a:xfrm>
            <a:off x="5356080" y="3824280"/>
            <a:ext cx="2316240" cy="2744640"/>
          </a:xfrm>
          <a:prstGeom prst="rect">
            <a:avLst/>
          </a:prstGeom>
          <a:ln w="0">
            <a:noFill/>
          </a:ln>
          <a:effectLst>
            <a:outerShdw dist="152225" dir="2700000" blurRad="0" rotWithShape="0">
              <a:srgbClr val="8f80ba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Format Clip Ar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picture or clip art to see Picture Tools Format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, crop, and position using options in the Size and Arrang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 using options in the Adjust and Picture Styles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0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39023963-7EEB-41F9-AF0D-FAAC3623F5A0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347760" y="2700360"/>
            <a:ext cx="8520120" cy="11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00:31:47Z</dcterms:created>
  <dc:creator>Jean Bissell</dc:creator>
  <dc:description>Copyright 2006 South-Western/Thomson</dc:description>
  <dc:language>en-US</dc:language>
  <cp:lastModifiedBy>Lenessa Keehn</cp:lastModifiedBy>
  <dcterms:modified xsi:type="dcterms:W3CDTF">2011-10-11T17:04:20Z</dcterms:modified>
  <cp:revision>28</cp:revision>
  <dc:subject/>
  <dc:title>Slide 1</dc:title>
</cp:coreProperties>
</file>